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6E2-A369-4CC6-AB88-81E35B32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803-D3E2-4E9B-8F4E-FD122B3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563-B727-446D-B2E2-5CAEAA53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B31-81DB-49AE-B748-D7557715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E80-5E7B-4C8B-9378-2022F40B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482-8AA7-4249-9A8F-E74ACB6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015-FF49-4F7D-AC16-E19D79BE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2B7-F15D-40F4-B52B-E5647890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EAE-BD67-43F6-A039-9D737D4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F8E-35E3-44CF-AC0C-4003141C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187-6EB6-4F19-9949-88D939F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2C6-9CE6-471D-98DB-1AF8D16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E26-A844-4225-B0B6-69CEE0201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415-0D26-449A-B94D-4B94DC176A1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600" spc="-1" strike="noStrike">
                <a:solidFill>
                  <a:srgbClr val="10253f"/>
                </a:solidFill>
                <a:latin typeface="Calibri"/>
              </a:rPr>
              <a:t>KIJIJI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roup 2: Takeshwar Rai, Brett Payne, Cindy Wong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Jessie Gwynne, Michelle Mah</a:t>
            </a:r>
            <a:r>
              <a:rPr b="0" lang="en-CA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331720"/>
            <a:ext cx="32004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828440"/>
            <a:ext cx="3809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3400" y="20570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2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bbq.jpg"/>
          <p:cNvPicPr/>
          <p:nvPr/>
        </p:nvPicPr>
        <p:blipFill>
          <a:blip r:embed="rId1"/>
          <a:stretch/>
        </p:blipFill>
        <p:spPr>
          <a:xfrm>
            <a:off x="5791320" y="1620720"/>
            <a:ext cx="2504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2209320"/>
            <a:ext cx="5867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vs.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balance-scale.jpg"/>
          <p:cNvPicPr/>
          <p:nvPr/>
        </p:nvPicPr>
        <p:blipFill>
          <a:blip r:embed="rId1"/>
          <a:stretch/>
        </p:blipFill>
        <p:spPr>
          <a:xfrm>
            <a:off x="6019920" y="4572000"/>
            <a:ext cx="22096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3360" y="25146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14:18Z</dcterms:modified>
  <cp:revision>14</cp:revision>
  <dc:subject/>
  <dc:title>KIJIJI</dc:title>
</cp:coreProperties>
</file>